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EA9-BF11-4A60-9243-BAA24576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072-5F25-431F-955B-2D03ED92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155-5C27-4E97-B402-4749A385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04C-3D6E-4C67-834F-0517AEA7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7D8-4880-40A1-83BF-939BCD1C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656-2F7F-4F87-8DE5-6281A242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3DF6-BE8D-4B96-9903-DB6B9603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976-31E4-4CEC-BADC-EB79AB2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D194-17CD-443A-A0B6-3D379332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D6B6-BF02-43E8-999C-46219E86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D26-E974-484B-8485-AC53E5E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FF7-C2E3-47F0-AB3E-35199887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B98-5B52-4FBF-B30D-6EA12D2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AC13-3CF4-4F0C-A1EA-6B5621B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6907-5D7A-42FF-A66E-7FB3A6C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049C-425C-4856-A63D-C7A53531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594B-C82E-4D08-9353-36A1940E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BF4-1CC6-406F-A9C5-BDF62F60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946-CB8D-41D9-A3AC-6CCDBCB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606-17C4-4A01-95F1-E3156101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3C3-01AE-4CD6-AE4D-0F227F3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00D-C34B-47CA-9493-4EBFF31F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FCE-FA97-4CAC-9293-0A5F391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119-40D7-4F0D-8B60-82B1A477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8C51-CE0D-4D74-B866-6BB427A2969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C352-4A5D-4C72-BAFB-E15CD6515CD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11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Measure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116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do you think a cubic centimeter and a milliliter have in comm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equal to each other. Doctors often say to take 3 ccs of a liquid medicine which would be equal to 3 ml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43:09Z</dcterms:created>
  <dc:creator>PritchaJ</dc:creator>
  <dc:description/>
  <dc:language>en-US</dc:language>
  <cp:lastModifiedBy>PritchaJ</cp:lastModifiedBy>
  <dcterms:modified xsi:type="dcterms:W3CDTF">2011-05-24T16:46:21Z</dcterms:modified>
  <cp:revision>3</cp:revision>
  <dc:subject/>
  <dc:title>Slide 1</dc:title>
</cp:coreProperties>
</file>